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5DC-34DF-4385-8421-34DC26FE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0E4-D474-4531-AEE9-CBB31B5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F34-B3FC-4654-A595-59C4242D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09A-5285-4629-A8C7-D5A15CDA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390-CD3F-4650-A96C-F71C3E36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C70-C122-411A-B88D-17147A11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9D6-82B6-4736-8926-6BD9F1DE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74C-E1A0-4E2C-AED4-82E73661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8EA-DE39-4527-A52F-7172495A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07D-2BF7-46F1-8562-CFA3AC99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AAF-0295-405E-BDC1-0EE73413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725-625A-4144-9954-ACB5EC33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BA63A08E-ADBD-48CB-B9AB-4E7AF59313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341360" y="1798560"/>
            <a:ext cx="6278760" cy="277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77120" y="4572000"/>
            <a:ext cx="17524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C:\Users\Administrator\Desktop\写作业.jpg"/>
          <p:cNvPicPr/>
          <p:nvPr/>
        </p:nvPicPr>
        <p:blipFill>
          <a:blip r:embed="rId2"/>
          <a:stretch/>
        </p:blipFill>
        <p:spPr>
          <a:xfrm>
            <a:off x="5943600" y="4572000"/>
            <a:ext cx="2666880" cy="2095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53880" y="189000"/>
            <a:ext cx="7309080" cy="828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1371600"/>
            <a:ext cx="8077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Arial"/>
              <a:buAutoNum type="arabicPeriod"/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sk the students to read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entences in gro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ff0000"/>
              </a:buClr>
              <a:buFont typeface="Arial"/>
              <a:buAutoNum type="arabicPeriod" startAt="2"/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sk the students to do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ract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5680" y="2475000"/>
            <a:ext cx="668196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92160" y="122400"/>
            <a:ext cx="927252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:\Users\Administrator\Desktop\玩电脑.jpg"/>
          <p:cNvPicPr/>
          <p:nvPr/>
        </p:nvPicPr>
        <p:blipFill>
          <a:blip r:embed="rId3"/>
          <a:stretch/>
        </p:blipFill>
        <p:spPr>
          <a:xfrm>
            <a:off x="6012000" y="1905120"/>
            <a:ext cx="2465280" cy="240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:\Users\Administrator\Desktop\看电视.jpg"/>
          <p:cNvPicPr/>
          <p:nvPr/>
        </p:nvPicPr>
        <p:blipFill>
          <a:blip r:embed="rId4"/>
          <a:stretch/>
        </p:blipFill>
        <p:spPr>
          <a:xfrm>
            <a:off x="533520" y="1371600"/>
            <a:ext cx="2925720" cy="243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5920" y="4414680"/>
            <a:ext cx="2805120" cy="183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809880" y="1833480"/>
            <a:ext cx="205272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405400" y="4572000"/>
            <a:ext cx="259560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6480" y="79200"/>
            <a:ext cx="915696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C:\Users\Administrator\Desktop\看电视.jpg"/>
          <p:cNvPicPr/>
          <p:nvPr/>
        </p:nvPicPr>
        <p:blipFill>
          <a:blip r:embed="rId3"/>
          <a:stretch/>
        </p:blipFill>
        <p:spPr>
          <a:xfrm>
            <a:off x="6019920" y="4343400"/>
            <a:ext cx="26193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:\Users\Administrator\Desktop\写作业.jpg"/>
          <p:cNvPicPr/>
          <p:nvPr/>
        </p:nvPicPr>
        <p:blipFill>
          <a:blip r:embed="rId4"/>
          <a:stretch/>
        </p:blipFill>
        <p:spPr>
          <a:xfrm>
            <a:off x="1752480" y="3962520"/>
            <a:ext cx="2667240" cy="209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43120" y="1676520"/>
            <a:ext cx="2128680" cy="171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405400" y="1833480"/>
            <a:ext cx="2673360" cy="17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74720" y="1944720"/>
            <a:ext cx="6973920" cy="384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53320" y="5257800"/>
            <a:ext cx="153360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:\Users\Administrator\Desktop\洗脸.jpg"/>
          <p:cNvPicPr/>
          <p:nvPr/>
        </p:nvPicPr>
        <p:blipFill>
          <a:blip r:embed="rId3"/>
          <a:stretch/>
        </p:blipFill>
        <p:spPr>
          <a:xfrm>
            <a:off x="4952880" y="2057400"/>
            <a:ext cx="2438640" cy="2095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C:\Users\Administrator\Desktop\洗手.jpg"/>
          <p:cNvPicPr/>
          <p:nvPr/>
        </p:nvPicPr>
        <p:blipFill>
          <a:blip r:embed="rId4"/>
          <a:stretch/>
        </p:blipFill>
        <p:spPr>
          <a:xfrm>
            <a:off x="1143000" y="198108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ash my han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ash my f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C:\Users\Administrator\Desktop\梳头.jpg"/>
          <p:cNvPicPr/>
          <p:nvPr/>
        </p:nvPicPr>
        <p:blipFill>
          <a:blip r:embed="rId3"/>
          <a:stretch/>
        </p:blipFill>
        <p:spPr>
          <a:xfrm>
            <a:off x="838080" y="1676520"/>
            <a:ext cx="3575160" cy="281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rush my 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rush my 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4120" y="1828800"/>
            <a:ext cx="26305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C:\Users\Administrator\Desktop\叠被子.jpg"/>
          <p:cNvPicPr/>
          <p:nvPr/>
        </p:nvPicPr>
        <p:blipFill>
          <a:blip r:embed="rId3"/>
          <a:stretch/>
        </p:blipFill>
        <p:spPr>
          <a:xfrm>
            <a:off x="1143000" y="1752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51814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ake my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:\Users\Administrator\Desktop\穿.jpg"/>
          <p:cNvPicPr/>
          <p:nvPr/>
        </p:nvPicPr>
        <p:blipFill>
          <a:blip r:embed="rId4"/>
          <a:stretch/>
        </p:blipFill>
        <p:spPr>
          <a:xfrm>
            <a:off x="4648320" y="1447920"/>
            <a:ext cx="414648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19720" y="5181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ut on my clo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eat breakf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4956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o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1528920"/>
            <a:ext cx="2963880" cy="21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805280" y="1828800"/>
            <a:ext cx="289080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80" y="189000"/>
            <a:ext cx="7972560" cy="82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16765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A:  Hi, 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:  Hi,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A: What do you do in the mo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: I 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C:\Users\Administrator\Desktop\写作业.jpg"/>
          <p:cNvPicPr/>
          <p:nvPr/>
        </p:nvPicPr>
        <p:blipFill>
          <a:blip r:embed="rId3"/>
          <a:stretch/>
        </p:blipFill>
        <p:spPr>
          <a:xfrm>
            <a:off x="6019920" y="1219320"/>
            <a:ext cx="2666880" cy="20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7:08:10Z</dcterms:created>
  <dc:creator/>
  <dc:description/>
  <dc:language>en-US</dc:language>
  <cp:lastModifiedBy/>
  <dcterms:modified xsi:type="dcterms:W3CDTF">2017-09-14T12:14:03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